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B20-C90F-4C70-8E81-48371BE2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39D-251C-4FEF-90F5-6890A25A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5D0-B3C0-425F-B759-46C924CA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664-1973-4410-94F0-D78C725F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7E5B-CC22-4640-9FE2-707A44CA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3A42-DE88-4E06-8DAD-442B015E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7F1E-D6BF-4686-BF5C-3321E2CB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3085-90C5-42D6-9946-D14F0908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7606-3AD7-4DF2-B1D8-332C8FCE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F8E9-A499-4822-9492-4F76ABD5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A567-0EFB-4176-9A93-1BD6C163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9B6-F733-4CE4-BB1D-5A3CD7C4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2B2E-79EB-4458-8E4C-7FCDAB4F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D87B-CA7F-46E4-ABBE-C2AB5C5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847F-020A-490A-8A39-3C3578FE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8FA3-6155-4522-8048-1A23E28F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60D7-45EE-4FF9-931F-5943C689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AB2-25A5-4276-B877-5F300FD3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781-795E-4885-9C31-68BDFF04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A2F-D700-48F7-8F83-1A0E1006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640-DA9E-4E1F-9500-139FE4A9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954-3EF9-486E-8C01-480E4E48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A81-42BB-480C-A4D6-A8D5873A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9E9-BFC9-4AEB-9B89-705D02C2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73C4-01DC-42B1-8115-5E908026ED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FD62-726D-4A0E-8688-23AFF2A6EA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8c0039"/>
                </a:solidFill>
                <a:uFillTx/>
                <a:latin typeface="Clarendon Extended"/>
              </a:rPr>
              <a:t>Загадка: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spcBef>
                <a:spcPts val="2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Arial"/>
              </a:rPr>
              <a:t>Всех наградила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8000" spc="-1" strike="noStrike">
                <a:solidFill>
                  <a:srgbClr val="000000"/>
                </a:solidFill>
                <a:latin typeface="Arial"/>
              </a:rPr>
              <a:t>всё погубил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c0039"/>
                </a:solidFill>
                <a:latin typeface="ITC Zapf Chancery"/>
              </a:rPr>
              <a:t>А.К.Толстой «Осень»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10" descr="Изображение 00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56000" y="1571760"/>
            <a:ext cx="4416480" cy="5097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2792520" y="5726160"/>
            <a:ext cx="43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ITC Zapf Chancery"/>
              </a:rPr>
              <a:t>(1817-1875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411280" y="260280"/>
            <a:ext cx="6400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ITC Bookman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TC Bookman Light"/>
              </a:rPr>
              <a:t>О каких приметах осени упоминает автор в строках  своего стихотворения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ITC Bookman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TC Bookman Light"/>
              </a:rPr>
              <a:t>Как поэт называет са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ITC Bookman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TC Bookman Light"/>
              </a:rPr>
              <a:t>Какое настроение рождает это стихотвор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c0039"/>
                </a:solidFill>
                <a:latin typeface="Monotype Corsiva"/>
              </a:rPr>
              <a:t>Н.А.Некрасов «Славная осень!..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0" name="Picture 8" descr="Изображение 006"/>
          <p:cNvPicPr/>
          <p:nvPr/>
        </p:nvPicPr>
        <p:blipFill>
          <a:blip r:embed="rId1"/>
          <a:stretch/>
        </p:blipFill>
        <p:spPr>
          <a:xfrm>
            <a:off x="3276720" y="1197000"/>
            <a:ext cx="4319640" cy="566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-360"/>
            <a:ext cx="6400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4005c"/>
                </a:solidFill>
                <a:latin typeface="Monotype Corsiva"/>
              </a:rPr>
              <a:t>Ядрё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вежий, чист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Monotype Corsiva"/>
              </a:rPr>
              <a:t>Студё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чень холод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411280" y="0"/>
            <a:ext cx="673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хищается осенью или сожалеет о ней автор? Обоснуйте 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в стихотворении слова, которыми Некрасов определяет             воз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л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л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e4005c"/>
                </a:solidFill>
                <a:latin typeface="Times New Roman"/>
              </a:rPr>
              <a:t>Что это за приё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ещё образные средства использует авт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менится ли стихотворный образ, если вы замените изобразительные средства своими слова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c0039"/>
                </a:solidFill>
                <a:latin typeface="Monotype Corsiva"/>
              </a:rPr>
              <a:t>А.Н. Майков «Осень»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4" name="Picture 7" descr="Изображение 005"/>
          <p:cNvPicPr/>
          <p:nvPr/>
        </p:nvPicPr>
        <p:blipFill>
          <a:blip r:embed="rId1"/>
          <a:stretch/>
        </p:blipFill>
        <p:spPr>
          <a:xfrm>
            <a:off x="3348000" y="1197000"/>
            <a:ext cx="3960720" cy="5327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864160" y="5726160"/>
            <a:ext cx="43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ITC Zapf Chancery"/>
              </a:rPr>
              <a:t>(1821-1897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437920" y="0"/>
            <a:ext cx="6705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Monotype Corsiva"/>
              </a:rPr>
              <a:t>Вешня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сенн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Monotype Corsiva"/>
              </a:rPr>
              <a:t>Пурпу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тёмно- или ярко-кра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411280" y="620280"/>
            <a:ext cx="64008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Можно ли сказать что авторы ( поэт и композитор)  говорят об одном и том ж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оделитесь впечатления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411280" y="260280"/>
            <a:ext cx="6400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2627280" y="1052640"/>
            <a:ext cx="590544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елаю удачи!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cc99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e4005c"/>
                </a:solidFill>
                <a:latin typeface="Arial"/>
              </a:rPr>
              <a:t>«Унылая пора! Очей очарование!..»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к литературного чтения в 3 классе по программе «Гармони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Искалова Н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« Железногорская средня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образовательная школа №1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2340000" y="0"/>
            <a:ext cx="43196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ень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ITC Zapf Chancery"/>
              </a:rPr>
              <a:t>время таинственного превращения и тихого угасания  природ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Осень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311148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2"/>
          <p:cNvSpPr txBox="1"/>
          <p:nvPr/>
        </p:nvSpPr>
        <p:spPr>
          <a:xfrm>
            <a:off x="2124000" y="3213000"/>
            <a:ext cx="7020000" cy="36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ень-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ремя таинственного превращения и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хого угасания природы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327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45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И.И.Левитан «Золотая осень».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7" descr="Изображение 003"/>
          <p:cNvPicPr/>
          <p:nvPr/>
        </p:nvPicPr>
        <p:blipFill>
          <a:blip r:embed="rId1"/>
          <a:stretch/>
        </p:blipFill>
        <p:spPr>
          <a:xfrm>
            <a:off x="2411280" y="1628640"/>
            <a:ext cx="6481800" cy="496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c0039"/>
                </a:solidFill>
                <a:latin typeface="Monotype Corsiva"/>
              </a:rPr>
              <a:t>А.С.Пушкин «Осень».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9" name="Picture 7" descr="Изображение 007"/>
          <p:cNvPicPr/>
          <p:nvPr/>
        </p:nvPicPr>
        <p:blipFill>
          <a:blip r:embed="rId1"/>
          <a:stretch/>
        </p:blipFill>
        <p:spPr>
          <a:xfrm>
            <a:off x="3276720" y="1268280"/>
            <a:ext cx="4103640" cy="540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95280" y="0"/>
            <a:ext cx="6948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005c"/>
                </a:solidFill>
                <a:latin typeface="Monotype Corsiva"/>
              </a:rPr>
              <a:t>Багрянец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ITC Zapf Chancery"/>
              </a:rPr>
              <a:t> однокоренное слово к слову «багряный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TC Zapf Chancery"/>
              </a:rPr>
              <a:t>-тёмно-красный, близкий к цвету кров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TC Zapf Chancery"/>
              </a:rPr>
              <a:t>Это слово очень любили поэты </a:t>
            </a:r>
            <a:r>
              <a:rPr b="0" lang="en-US" sz="4400" spc="-1" strike="noStrike">
                <a:solidFill>
                  <a:srgbClr val="000000"/>
                </a:solidFill>
                <a:latin typeface="ITC Zapf Chancery"/>
              </a:rPr>
              <a:t>XIX</a:t>
            </a:r>
            <a:r>
              <a:rPr b="0" lang="ru-RU" sz="4400" spc="-1" strike="noStrike">
                <a:solidFill>
                  <a:srgbClr val="000000"/>
                </a:solidFill>
                <a:latin typeface="ITC Zapf Chancery"/>
              </a:rPr>
              <a:t> 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195280" y="0"/>
            <a:ext cx="6948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ITC Zapf Chancery"/>
              </a:rPr>
              <a:t>Найдите в стихотворении образные средства языка (эпитеты, олицетворения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ITC Zapf Chancery"/>
              </a:rPr>
              <a:t>С какой целью Пушкин их использу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c0039"/>
                </a:solidFill>
                <a:latin typeface="Monotype Corsiva"/>
              </a:rPr>
              <a:t>М.Ю.Лермонтов «Осень»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Picture 7" descr="Изображение 004"/>
          <p:cNvPicPr/>
          <p:nvPr/>
        </p:nvPicPr>
        <p:blipFill>
          <a:blip r:embed="rId1"/>
          <a:stretch/>
        </p:blipFill>
        <p:spPr>
          <a:xfrm>
            <a:off x="3132000" y="1197000"/>
            <a:ext cx="4032360" cy="551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702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TC Zapf Chancery"/>
              </a:rPr>
              <a:t>Каким перед вами предстаёт бор, где «поникшие ели зелень мрачно хранят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TC Zapf Chancery"/>
              </a:rPr>
              <a:t>Почему поэт назвал зелень  «мрачной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TC Zapf Chancery"/>
              </a:rPr>
              <a:t>Как вы понимаете строки «зверь, отважный поневоле, скрыться где-нибудь спешит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6:02:53Z</dcterms:created>
  <dc:creator>Cool</dc:creator>
  <dc:description/>
  <dc:language>en-US</dc:language>
  <cp:lastModifiedBy>User</cp:lastModifiedBy>
  <dcterms:modified xsi:type="dcterms:W3CDTF">2012-05-07T13:08:41Z</dcterms:modified>
  <cp:revision>16</cp:revision>
  <dc:subject/>
  <dc:title>«Унылая пора, очей очарование…»</dc:title>
</cp:coreProperties>
</file>